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F46-9426-4892-81E6-42113588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AD9-8ADF-4968-84A4-3B291C36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9FD-25FD-4998-9140-3251F7DA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627-1A5C-428F-82E4-C71EDF31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1C6-1D59-4F4A-A4B9-12916A52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7DA-6FF7-4E96-B9B3-06FFE00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441-709C-40B1-9E6E-D4321472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AE9-79D0-4129-89AE-6DE06F02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B51-FC73-47B3-9C71-F178A640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2BB-34CC-4A83-9620-B90AE613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E89-FE7F-4CC6-8ED1-83C21E1A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10F-E29E-4E93-9319-720CD71C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50C0-F724-4A47-A373-773DCB050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-</cp:lastModifiedBy>
  <dcterms:modified xsi:type="dcterms:W3CDTF">2013-04-29T20:56:43Z</dcterms:modified>
  <cp:revision>10</cp:revision>
  <dc:subject/>
  <dc:title>Слайд 1</dc:title>
</cp:coreProperties>
</file>